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C2C9C-C71F-4B3F-B84A-0117737B5A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78E87-3754-4D0E-A6E9-226BC4FFF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:  Sequence and structural properties of cleavage sequenc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(a) A stacked histogram showing the percentages for which each residue is present at each position in the cleavage sequence, in positives for Granzyme B (G) and Caspase (C), and negatives (N).  The numbering spans from P4 to P4’.  Letters on the plots represent the one-letter code for each amino acid, followed by its percentage at that position.  X (orange) represents the total percentage for all residues that are present in the position at less than 5% frequency.  Amino acids are grouped by general characteristic (Blues: hydrophobic; reds: branched hydrophobic; greens: acidic; teals: basic; purples: uncharged polar). (b) Structural properties of protease cleavage sequence positives and negatives.  (Structure) indicates that DSSP was used to assess structural properties of substrates where a solved structure or good quality model was available; (Sequence) indicates that sequence-based structural prediction methods were used to assess the fe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B20E0-93A2-48D9-83DF-2A023069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76D-C8A3-447E-8A10-80377183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D85-8278-47A5-BD82-8D7B950D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572-9DD0-4164-8C39-32387BF6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CFB-0AC8-41D3-8201-6B9E58A9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5DE-1BE7-4029-A13C-C59C35E9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E23-5482-47B6-8687-EFCD023A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275-ADF9-46EF-A2AE-836175C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85F-F2B5-48D4-8C7B-E4E94CF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5B8-B8FE-4884-857E-5199B15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A46-21B6-4579-AF77-850F5D0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15E-2AF6-4B26-99E8-F23C9C9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E8A-B3EE-4ED2-A3B7-F68C022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694FA-8DC6-4BFD-94DE-6B197F5EA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0EC53-2871-4E1B-999D-67B7C3B7B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7" descr=""/>
          <p:cNvPicPr/>
          <p:nvPr/>
        </p:nvPicPr>
        <p:blipFill>
          <a:blip r:embed="rId1"/>
          <a:stretch/>
        </p:blipFill>
        <p:spPr>
          <a:xfrm>
            <a:off x="255600" y="401760"/>
            <a:ext cx="64436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Chart 9" descr=""/>
          <p:cNvPicPr/>
          <p:nvPr/>
        </p:nvPicPr>
        <p:blipFill>
          <a:blip r:embed="rId2"/>
          <a:stretch/>
        </p:blipFill>
        <p:spPr>
          <a:xfrm>
            <a:off x="165240" y="2968560"/>
            <a:ext cx="312732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Chart 8" descr=""/>
          <p:cNvPicPr/>
          <p:nvPr/>
        </p:nvPicPr>
        <p:blipFill>
          <a:blip r:embed="rId3"/>
          <a:stretch/>
        </p:blipFill>
        <p:spPr>
          <a:xfrm>
            <a:off x="3736800" y="2968560"/>
            <a:ext cx="312768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67400" y="19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7760" y="29113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511440" y="4579920"/>
            <a:ext cx="76320" cy="76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11440" y="4973760"/>
            <a:ext cx="76320" cy="75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511440" y="4770360"/>
            <a:ext cx="7632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554280" y="46846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p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3555720" y="44942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g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552840" y="4888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653280" y="291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641160" y="203040"/>
            <a:ext cx="59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           P3           P2            P1           P1’          P2’           P3’          P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5" descr=""/>
          <p:cNvPicPr/>
          <p:nvPr/>
        </p:nvPicPr>
        <p:blipFill>
          <a:blip r:embed="rId1"/>
          <a:srcRect l="1227" t="1902" r="1859" b="1902"/>
          <a:stretch/>
        </p:blipFill>
        <p:spPr>
          <a:xfrm>
            <a:off x="152280" y="2158920"/>
            <a:ext cx="6400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0:41:28Z</dcterms:created>
  <dc:creator>David Barkan</dc:creator>
  <dc:description/>
  <dc:language>en-US</dc:language>
  <cp:lastModifiedBy>David Barkan</cp:lastModifiedBy>
  <cp:lastPrinted>2009-09-30T02:40:58Z</cp:lastPrinted>
  <dcterms:modified xsi:type="dcterms:W3CDTF">2010-01-05T10:56:53Z</dcterms:modified>
  <cp:revision>50</cp:revision>
  <dc:subject/>
  <dc:title>Slide 1</dc:title>
</cp:coreProperties>
</file>